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5.jpeg" ContentType="image/jpeg"/>
  <Override PartName="/ppt/media/image6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23C-1237-4DDE-872C-0DC486DD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2935-D63F-4931-8061-622FE382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E9C-15B2-4B09-8B31-6FB33444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761-271F-44E9-BF4F-F1A6ABDC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0F89-EF60-4515-886C-9418E2B9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7385-DB1F-4C58-B82C-FF134F24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89E5-DC85-4974-BDF9-F8D81A2E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8CF9-DD2C-41FC-97E7-453ED8DC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9806-A043-44C4-8D9A-A5B2E7A2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B4C2-7D57-4DC9-A9B6-A15B9A93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8BFD-8AE4-45B7-ADCB-8BE4E55C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672-0933-4327-8271-6448FB47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130B-8A14-4091-A70E-94A62ECF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4381-6853-4611-928A-6DED4095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670F-3D8E-41E6-ACDC-6A01E1D7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D7D7-CEBE-4BA6-A63E-7B620326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0BFA-BC01-4D42-8AD7-1458A0EE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F66-F15C-4769-B236-2FE54A4F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BAA-B9DF-4FD9-BFD0-A945C2F6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97FA-CEB1-41CD-8698-30F82562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F40-AF66-43DC-B802-97E25FF7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09D-BCE3-453C-97C5-B9D6A673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F83-CCDF-4355-B6E0-F4EA5157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03B4-B392-4FA7-9042-83AC01B9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4C32-D283-4AFF-9650-39CC9A578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C484-89E6-4480-A943-9A41BA335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oking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y : Emily Swo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9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occurs when a person’s airway becomes blocked by food or another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flipH="1" rot="8767800">
            <a:off x="0" y="31233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rot="24000">
            <a:off x="7620120" y="20570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Macintosh HD:Users:student:Desktop:femalecough2_stereo.wav" descr=""/>
          <p:cNvPicPr/>
          <p:nvPr/>
        </p:nvPicPr>
        <p:blipFill>
          <a:blip r:embed="rId3"/>
          <a:stretch/>
        </p:blipFill>
        <p:spPr>
          <a:xfrm>
            <a:off x="8534520" y="6553080"/>
            <a:ext cx="15228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58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58"/>
                            </p:stCondLst>
                            <p:childTnLst>
                              <p:par>
                                <p:cTn id="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king in Ad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bdominal thrusts method- pull quickly upwards on their stomach to force food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wards make sure victim is okay and brea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0__x0010__x0010__x0010__x0010__x0010__x0010__x0010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king in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hildren, use the chest thrusts method- quick presses on their chest to force food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child on your thigh and support head as you pu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you are chok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know you’re choking, try to tell someone right a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 one is around, use a sturdy object like a sofa/couch or c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END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2667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7:41Z</dcterms:created>
  <dc:creator>Kraybill Campus LMS</dc:creator>
  <dc:description/>
  <dc:language>en-US</dc:language>
  <cp:lastModifiedBy>Kraybill Campus LMS</cp:lastModifiedBy>
  <dcterms:modified xsi:type="dcterms:W3CDTF">2011-05-26T16:20:47Z</dcterms:modified>
  <cp:revision>4</cp:revision>
  <dc:subject/>
  <dc:title>Choking By : Emily Swope</dc:title>
</cp:coreProperties>
</file>